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44F-CA71-4774-8E07-88FEBE55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A0B6-9351-4CB4-B84A-984F3522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191-BECD-4BB8-B08E-887AD2DA7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1AC1-E292-484C-AA03-B1653CB1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A209-5BA4-4AA4-A084-479AA788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CA65-21C5-4ECC-9450-EADC147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B360-6CBA-49B2-9947-B3102949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BE3F-9A7F-47A5-BA4A-FA934535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2C3D-792A-4DEC-AAC6-171B8C3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A6D3-D4D9-4F86-8BE4-A1F4A286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11E4-2BB6-4D9F-A4F7-0480D6E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8F5-031A-4F2B-87CA-BD8FDAFF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3688-07E3-4D17-980A-ECD5DBA0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17EC-A869-4E1F-9966-0E79E9D4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12C4F-8C9D-4B92-B4BA-8E3E88FB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3EC0-3E84-41D3-85EA-241934B0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82EB-9E89-498D-87B2-A359C1955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8B7F-1325-4AB1-B0DB-CB844540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2703-C3DD-489F-9A81-FE741E93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1E25F-AC38-482A-B199-82489F91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747D-FBEF-4FAB-AF5E-C7A55D24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E1BDF-31AB-4A26-A2DC-2C11A17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DE8-69BA-4C09-81C4-6AE9CEAF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5A04B-BCEA-472D-89A0-D21D25D5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481DE-0211-4A47-A1BD-868F132D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2819-94EF-4B90-AF0D-B2E60C77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B33D1-E204-444C-A6CB-5266F8BC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17F9-28D9-46B3-B7C1-8AA2BA3C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F343-309F-4AD7-8E34-294054E3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0577-AE76-494A-BE83-BEF8F03B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CC4-69E8-4AB3-A58E-ACEE649A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422F-FF10-4D3E-9E4C-A7D7C292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CAF1-3356-4FB2-84D5-CBB94CAC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33D-0AED-4079-86CC-6001AFBB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70A8-EAC8-447A-B97B-028F0A74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8DC-A419-4C6F-B3A5-87CEE823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CD84-4CE2-4766-96A7-A1C1FFFAF8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AC69-4DF7-4405-88B9-981672ED05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a9337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87026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B7A0-28AD-4056-BC2A-761B5641C51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79280" y="404640"/>
            <a:ext cx="6624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76d1d"/>
                </a:solidFill>
                <a:latin typeface="Times New Roman"/>
              </a:rPr>
              <a:t>ПРОДУКТИВНОСТЬ СООБЩЕСТ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ой вклад в образование биомассы планеты вносит Мировой океан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25448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0" y="3933720"/>
            <a:ext cx="3816360" cy="2584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 чего зависит и как измеряется плодородие сельскохозяйственного участка?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500280"/>
            <a:ext cx="822960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изменяется плодородие в различных географических зонах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свойство организмов преобразовывать неорганическое вещество в свою биомассу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306864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масс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овокупность органического вещества всех организм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ИВНОСТЬ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тивность рассчитывается на единицу площади экосистем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85264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тивнос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прирост биомассы за единицу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общая (суммарная) величина приращения биомассы за единицу времени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2637000"/>
            <a:ext cx="2665440" cy="57600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59280" y="3573360"/>
            <a:ext cx="2665440" cy="86364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00360" y="5013360"/>
            <a:ext cx="2089080" cy="1297080"/>
          </a:xfrm>
          <a:prstGeom prst="rect">
            <a:avLst/>
          </a:prstGeom>
          <a:noFill/>
          <a:ln w="19080">
            <a:solidFill>
              <a:srgbClr val="476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55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6000" y="3284640"/>
            <a:ext cx="792000" cy="21564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971640" y="4508640"/>
            <a:ext cx="79200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508640"/>
            <a:ext cx="719280" cy="360360"/>
          </a:xfrm>
          <a:prstGeom prst="line">
            <a:avLst/>
          </a:prstGeom>
          <a:ln w="28440">
            <a:solidFill>
              <a:srgbClr val="407d2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ичная продукци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иомасса продуцентов, накопленная в результате фотосинтеза или хемосинтез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87026"/>
              </a:solidFill>
              <a:latin typeface="Constantia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299736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алов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вся биомасса, накопленная в результате фотосинт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076640"/>
            <a:ext cx="8229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истая первичная продукц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фактическая скорость наращивания биомас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ТОРИЧНАЯ ПРОДУКЦИЯ</a:t>
            </a:r>
            <a:endParaRPr b="1" lang="en-US" sz="3200" spc="-1" strike="noStrike">
              <a:solidFill>
                <a:srgbClr val="4a9337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ичная продукц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суммарная биомасса консументов и редуцентов.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бол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672000" cy="252252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1979640" y="3429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ропический 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3672000" cy="2521080"/>
          </a:xfrm>
          <a:prstGeom prst="rect">
            <a:avLst/>
          </a:prstGeom>
          <a:ln w="9360">
            <a:solidFill>
              <a:srgbClr val="407d2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5364000" y="5877000"/>
            <a:ext cx="2665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с умеренной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684036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аких экосистемах наблюдается наименьшая продуктивность и почему?</a:t>
            </a:r>
            <a:endParaRPr b="0" lang="en-US" sz="2400" spc="-1" strike="noStrike">
              <a:solidFill>
                <a:srgbClr val="387026"/>
              </a:solidFill>
              <a:latin typeface="Constanti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3305160" cy="247968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2411280" y="3716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сты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427640" y="4076640"/>
            <a:ext cx="3313080" cy="2448000"/>
          </a:xfrm>
          <a:prstGeom prst="rect">
            <a:avLst/>
          </a:prstGeom>
          <a:ln w="9360">
            <a:solidFill>
              <a:srgbClr val="0033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4500720" y="4149720"/>
            <a:ext cx="107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унд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6:16:55Z</dcterms:created>
  <dc:creator>Admin</dc:creator>
  <dc:description/>
  <dc:language>en-US</dc:language>
  <cp:lastModifiedBy>Admin</cp:lastModifiedBy>
  <dcterms:modified xsi:type="dcterms:W3CDTF">2013-03-04T16:23:46Z</dcterms:modified>
  <cp:revision>17</cp:revision>
  <dc:subject/>
  <dc:title>Слайд 1</dc:title>
</cp:coreProperties>
</file>